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68C2DB-4A9F-4D8B-804C-0FA77D2AC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F87E5E-BAAF-455F-B3B0-734B5FD16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80A433-A62E-48CD-A652-C41CBB6A7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FF1636-D8C6-4D08-BB25-82BD80621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54E6BE-BCCD-4F99-97B0-8A24ECE10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593847-4769-42FF-9B3A-52EE48441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081057-AFCC-4785-BEEA-F765EEEB8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6403C2-E4CB-42FE-94B4-BC5F33EA0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70182F-7437-4374-9887-2CC99EA89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66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881A26-AA91-4B7A-A692-0773CBB50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71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72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73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7E2CA4-5C84-46EA-BCF7-046BC9E85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C34C3F0-A949-458B-96F3-1386A9E4B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8ECE76-F8C2-4697-A4BD-A306E2970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328AF9E-1F52-40D0-9BBB-37C0D73FB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B8CFD53-26BD-4665-881E-EE1177318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29BF098-38AD-47AB-9FDA-3CDCAD34A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9D0FF68-61C8-41C7-985D-A238B06DE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5D927D7-0D1E-4E73-8375-D5910A1A2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D805E0C-88D2-45FA-A7C5-D369AA046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5058E11-0461-4DB8-A9E3-6E873BE13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BF2A78B-56A6-4198-8E37-5336F8756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FB4F29A-397E-47D9-A8CA-26B14CCF3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07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957B454-4320-41DE-B388-EF59A678A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E30600-B9B2-4F31-9D59-5D1DAD86C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2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3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4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431E884-BA5E-430D-9291-89B0291C1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09630F-A5A3-490A-AF85-ED7273D2F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D0010D-EFE4-4393-8E3A-738FC3765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F5F16E-38D6-4957-9051-4BBC088C0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4C6B38-6FDC-4779-BA44-B76D2AC11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E37D25-9138-4D0A-98BA-7E44EBD4B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5F3522-8B88-47BF-B803-37525CEDD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7E020A-6D90-4857-8799-FEEBFFE98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A91CDA-7756-4F42-A240-2ABD9F78C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7EAB12-283F-4287-9A83-AE1854592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439C0-627B-4ECE-9DCF-603278251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A452EE-BDE2-4810-A131-0CBF735DB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AF7994-0D63-4A54-9396-653236323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4CF8FB-85D0-4D31-BB9D-B6D672226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C0527A1-D297-4811-97FC-FE2E7FB0B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33A959B-F7E6-428F-BB01-5803C3BCB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584AE71-B09D-46D6-B928-78C51A170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61349A5-7C56-4388-9EF5-A2846926B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F7F146E-7B94-4B1E-9FF6-8243A43FE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052DD61-A2A5-4297-AB22-771306204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DB06C6C-2BA0-415D-B3CF-C26700A5B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AD091-BC61-42DB-B391-11AFF17EA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F3D5FFC-3120-4460-9C46-869291367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633080D-EE15-4047-B9D2-4F59BB256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225B4C4-A40D-4DCD-9C70-CCEB3A421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4AF1068-42DD-41A4-AC05-B639D06D4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3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3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3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ACB3642-E4AC-4C6C-AA65-F9CB1F67E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1C1494F-C82B-4BDF-847A-5F7CD4813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CFA9AC6-3F38-43BD-ACA1-F93CA555E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6CABC24-0076-4439-9563-70CBBA5B9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4A987CF-49F4-4C01-8CB1-924AAE46D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B2B23E1-A4C2-4954-995D-0CE45A7A1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29119-CE71-40ED-B351-3D9E7D77B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244C03F-661D-4B09-901A-7ABE4822D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38DDA5B-7F40-41E4-A12E-17722CCB7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2170095-02ED-4509-9D79-7AF81B370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79E541B-EDD7-41F1-A112-72E439815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E8A68D3-2984-4A2B-AB05-92962A8B9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717C921-2431-4B9D-B355-C7F4E7E04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4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4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F166FD1-6835-48AA-827C-E0FD0002B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A3D48A7-AD52-4096-A0DE-2D33CA352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A909A5D-94F5-46BC-B5D1-412F68528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A67755E-8A38-4FA6-A728-E6C330B6C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DB190-632E-4E28-8BCB-FDEBF54F3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85605C8-DFE5-46CF-8DFC-C2EA9D50C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F253B4C-A3F1-4D9F-A985-99B88D320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D3560EF-BC6B-46C7-95E1-8E8A7F061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83FC497-B320-4A54-9770-226DEE730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7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AD46100-A7F9-41E7-B4A8-32AEE2ABB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1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C03E0A4-DF2D-4528-9BFA-DE29EFDC4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0D9E7B2-9B7C-4B00-A6AD-2AC9ED4EC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9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47866CB-55E9-4B78-9C99-CF3C79730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2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3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4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5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6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B94667F-14B5-44A6-A847-383DED3A4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4BA86-94DB-4C3D-9248-DC1189F91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E3738-0AD3-4984-81CC-E1C5A708C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0E169-581F-4999-BA0E-1D27AA7F9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01EB17-F9D7-4353-BC1F-526760418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C2693-1A39-49AF-A427-D6C7F4F69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2EC3A-CE55-4EAF-A2B7-691701E02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F0A20-5323-4292-B0DA-E29B34D97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C6AFC-F836-4E4D-8649-2EB5C3C15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E7591-9421-4D72-B461-2A494E9FF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137216-CACC-4B90-BCF7-B4B58AF30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DF8D67-E9A9-4C18-BCB3-749FF453B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0B90BD-AA3A-4C1E-88AD-2478C0B27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876E09-5884-4A17-AA8A-E53D5F6B6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796430-2B16-4D30-B052-A43D916B9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3526BD-FFF4-457C-9732-EBF253F1A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11EC3A-54A9-4D69-9112-215CCB198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9B8B46-A48F-4B28-9CBE-9A26F7B49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43BF9F-2709-4B78-BE38-708309B72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179E5E-DC1E-4238-A633-24A7B2436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FBEBF6-F6C2-4C65-82B2-A834EF7EF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0814B4-8D00-4F31-B7BE-65E113C6B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BEF78F-2FBA-438D-A17B-5AD081414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0BCFE2-39DE-47F6-B810-53036E61C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F1377A-4EE9-4825-99C0-A0BCDD297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155375-DDEE-402E-8228-68995EB77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4C6ECB-C46E-467A-8FF7-61B2E5BD9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EE9273-6713-4CFE-BCA7-5202D1AB3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761243-8858-4E61-88A2-CF44CD38F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0FFA9A-77D3-4C6C-AE56-5EBC038B7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B8E173-98DE-447D-895B-3298FC420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438A9F-6E65-4736-B5C9-C57EF5776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D0D502-C87F-414D-894F-783E2F891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D45721-EEEE-4B9B-ADC1-BB44E64C4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B54FED-4F25-414F-8918-C4429C81B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8E35B2-482B-44D1-B801-0143F2688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C73CAC-9A04-42E1-B48A-8B5854433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66353C-3C06-4B83-8454-FE49B7C99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6DD60C-5863-43F4-AC8A-22BA1832D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F76CDD-5F1E-4EFA-93B6-5FCDC7871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CBBC5C-8424-4798-B7AA-8D1BEF064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84AECE-58AE-4BAE-9C77-D4ECF3F80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41C411-FD9A-4F43-9E67-1F450170C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57ECF8-87C2-4442-A8BA-9E805E550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77C444-8096-439E-B11E-4607DE459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68AA8D-E868-4B9A-A0EA-B6E1559C0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F158E3-8D04-4C56-8E6F-E050A0665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1D1A34-4B61-4081-966A-4440C2DC9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C9A2F4-F006-4623-A22B-AA3AE7AA8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330081-E750-40A2-94B5-7EC0FB03D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FA04DB-CFD6-402A-92EB-6374A78AE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0C2CAF-C0A0-4539-9FD0-2B122F94E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976566-52E3-463A-84FE-BFDCE1BF7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B4B5CF-C495-4F22-B854-43008F7DF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2DFB29-D56E-4302-A514-BE4861BC1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80B490-AE30-485A-9386-8FC944408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BE90D6-C76A-46BA-93F1-47836EDF8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59AD33-D778-4EB4-8259-E1E68531E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D10353-404C-42F2-8DE6-73CE0CD4E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BBA6E9-6FAA-4340-B8C2-55235FCA5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9363AB-9B41-4CE7-A581-CDC24D6C4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400576-3E4B-46D2-B900-98F2A284E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2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3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423D19-0EAE-4AE3-86D3-C5167D2CB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3046F3-CFA9-4F70-9CD7-09C713879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77F082-FF6E-4690-8E76-C60BB541F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C2D603-6CCE-49F2-910A-AC279D240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862B23-6E9F-4036-A213-B8BF421B4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B155F3-E073-4DF2-A628-B60F09CAD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BEB2C8-F5B2-457C-8D6A-A4D314EAF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8A3AF7-1A59-491B-A973-D388C05DA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8D61D3-E31A-43AB-95D1-279A13D2F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DC39BC-2A65-48FA-A9C4-896D8263B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8D6679-6C97-4E00-B65B-2231BC377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3C2C37-283B-483F-8957-7E6E1A155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4D2181-B3A7-4403-A29F-396C4A0D1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8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9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2C680A-75FB-41F1-87FA-9DAA8FC83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C6C4A5-0200-4D43-BCEE-317B33D12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3CDDB9-3C3C-4ADB-A716-2BE761FD4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F01099-A8C4-432E-B618-3EC6B0F70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C11770-BD2E-4C70-BF30-6FB661873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C0FBEF-8ECD-44F4-A673-893D40E0E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034B4B-2F1E-4372-B190-E338A0BEB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C8C75A-A14D-4173-929B-82E62A475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E25964-4C1C-4305-8B55-FDC399EC9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895372-4291-4C6C-8A4F-CC41316FB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DB0C20-8AB5-4D89-A4F6-155614018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EB4E26-5A37-4BB0-945F-A77D3C052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4F8CFA-1FF0-43E5-AAB2-038CDD41C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31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32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6239F0-5CB3-476A-87D6-B1104739D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B38A57-C167-41D8-BBD7-7D59B2169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32850B-795C-4CEB-8513-8B1A0E19E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960280-D4A1-4D1A-8E91-29E6AF74C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BBB77-F06D-4FA1-B237-E6CFD055151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5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 type="ftr" idx="2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 type="sldNum" idx="2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515C9-46A3-4EAC-A66C-E322831D91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 type="dt" idx="3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5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716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18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19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720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21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22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27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8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29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9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BCBAD-20D4-4F0A-A018-5F0E1741AAB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6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777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79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0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781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82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783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88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89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90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 type="sldNum" idx="3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CF855-451E-46B8-8D91-7901674F448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 type="ftr" idx="3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6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837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38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839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864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865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6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7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8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9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0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1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2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3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4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5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6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7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8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9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80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881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2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83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884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5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6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7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8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9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0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1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2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893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 type="dt" idx="37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 type="ftr" idx="38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PlaceHolder 4"/>
          <p:cNvSpPr>
            <a:spLocks noGrp="1"/>
          </p:cNvSpPr>
          <p:nvPr>
            <p:ph type="sldNum" idx="39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37EE3-35B1-461A-A1E1-74FA9DEAE6D7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2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943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44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945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970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971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2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3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4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5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6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7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8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9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0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1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2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3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4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5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86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987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8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89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990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91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92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93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94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95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96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97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98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999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 type="dt" idx="40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 type="ftr" idx="41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 type="sldNum" idx="42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F069A-C2A7-45D9-8C52-3610B563A5B3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99D64-1EDC-4607-8C5E-A704D966EF3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0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2FEB9-2818-49BC-BA87-376722717DB6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1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94E8C-9D25-4544-9040-8572EA56DB08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7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88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6" name="PlaceHolder 1"/>
          <p:cNvSpPr>
            <a:spLocks noGrp="1"/>
          </p:cNvSpPr>
          <p:nvPr>
            <p:ph type="dt" idx="13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ftr" idx="14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Num" idx="15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05A20-FC06-4AF7-A64E-0C14E49F29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7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238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dt" idx="16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 type="ftr" idx="17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 type="sldNum" idx="18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59BF4-64F5-4C63-9E98-1C56E05BFF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4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285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86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88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289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91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292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94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295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296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8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299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300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1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2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303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4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5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306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7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8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309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0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1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312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3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4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7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18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9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0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21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2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3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324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5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6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327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9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330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1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2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333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4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5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336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7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8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339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0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1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342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3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4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345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6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7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348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9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0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351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2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3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354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5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6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357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8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9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360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1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62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364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365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6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7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368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9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0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371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2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3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374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5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6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377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8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9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380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1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2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383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4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5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386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7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8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389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1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392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3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4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395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6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397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ED764-10F5-4FAA-ACD8-969A9A7EFB1F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0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461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462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64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465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466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467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8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9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470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471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2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73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474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5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76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477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8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79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480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1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82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483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4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85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486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7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88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489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0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91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492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3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94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495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6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97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498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9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00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501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2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03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504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5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06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507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8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09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510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1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12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513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4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15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516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7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18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519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0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21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522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3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24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525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6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27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528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9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30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531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2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33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4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535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536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7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38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539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0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41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542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3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44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545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6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47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548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9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50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551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2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53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554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5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56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557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8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59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560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1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62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563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4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65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566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7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568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569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570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1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2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3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4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5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6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77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78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579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A3430-29D0-4A6E-AF62-B4CDC4422B44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90920-6FBD-4711-BBB9-F0E67F6DC8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7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9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2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4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4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03324"/>
                </a:solidFill>
                <a:latin typeface="Garamond"/>
              </a:rPr>
              <a:t>La Rutina</a:t>
            </a:r>
            <a:r>
              <a:rPr b="1" lang="en-US" sz="54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03324"/>
                </a:solidFill>
                <a:latin typeface="Garamond"/>
              </a:rPr>
              <a:t>La Rutina Diaria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El Despertars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ga 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se despierta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en la mañana del. Odia la mañana. Toga cae de la cama. Él todavía está muy cansado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1" name="" descr=""/>
          <p:cNvPicPr/>
          <p:nvPr/>
        </p:nvPicPr>
        <p:blipFill>
          <a:blip r:embed="rId1"/>
          <a:stretch/>
        </p:blipFill>
        <p:spPr>
          <a:xfrm>
            <a:off x="2133720" y="320040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El Desayunars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aunchy Rico come el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se desayuno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 Que come huevos y salchichas. El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se sient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4" name="" descr=""/>
          <p:cNvPicPr/>
          <p:nvPr/>
        </p:nvPicPr>
        <p:blipFill>
          <a:blip r:embed="rId1"/>
          <a:stretch/>
        </p:blipFill>
        <p:spPr>
          <a:xfrm>
            <a:off x="3733920" y="3809880"/>
            <a:ext cx="502920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" dur="500"/>
                                        <p:tgtEl>
                                          <p:spTgt spid="10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Una Ducha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El muchacho toma una ducha. El muchacha </a:t>
            </a:r>
            <a:r>
              <a:rPr b="1" lang="en-US" sz="3200" spc="-1" strike="noStrike" u="sng">
                <a:solidFill>
                  <a:srgbClr val="ffcc00"/>
                </a:solidFill>
                <a:uFillTx/>
                <a:latin typeface="Arial Black"/>
              </a:rPr>
              <a:t>se lava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el pelo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057" name="" descr=""/>
          <p:cNvPicPr/>
          <p:nvPr/>
        </p:nvPicPr>
        <p:blipFill>
          <a:blip r:embed="rId1"/>
          <a:stretch/>
        </p:blipFill>
        <p:spPr>
          <a:xfrm>
            <a:off x="5181480" y="3317760"/>
            <a:ext cx="3657600" cy="354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" dur="5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" dur="250" autoRev="1" fill="hold"/>
                                        <p:tgtEl>
                                          <p:spTgt spid="105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feitarse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l bebe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se afieta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 Se afieta con  la navaj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60" name="" descr=""/>
          <p:cNvPicPr/>
          <p:nvPr/>
        </p:nvPicPr>
        <p:blipFill>
          <a:blip r:embed="rId2"/>
          <a:stretch/>
        </p:blipFill>
        <p:spPr>
          <a:xfrm>
            <a:off x="4876920" y="2819520"/>
            <a:ext cx="30337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10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Peinar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yrone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se pein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3" name="" descr=""/>
          <p:cNvPicPr/>
          <p:nvPr/>
        </p:nvPicPr>
        <p:blipFill>
          <a:blip r:embed="rId1"/>
          <a:stretch/>
        </p:blipFill>
        <p:spPr>
          <a:xfrm>
            <a:off x="2666880" y="2590920"/>
            <a:ext cx="3645000" cy="3809880"/>
          </a:xfrm>
          <a:prstGeom prst="rect">
            <a:avLst/>
          </a:prstGeom>
          <a:ln w="0">
            <a:noFill/>
          </a:ln>
        </p:spPr>
      </p:pic>
      <p:pic>
        <p:nvPicPr>
          <p:cNvPr id="1064" name="" descr=""/>
          <p:cNvPicPr/>
          <p:nvPr/>
        </p:nvPicPr>
        <p:blipFill>
          <a:blip r:embed="rId2"/>
          <a:stretch/>
        </p:blipFill>
        <p:spPr>
          <a:xfrm>
            <a:off x="5334120" y="2514600"/>
            <a:ext cx="16761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2" dur="1" fill="hold"/>
                                  <p:tgtEl>
                                    <p:spTgt spid="106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46341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onerse la Rop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l viejo </a:t>
            </a:r>
            <a:r>
              <a:rPr b="1" lang="en-US" sz="3200" spc="-1" strike="noStrike" u="sng">
                <a:solidFill>
                  <a:srgbClr val="eaeaea"/>
                </a:solidFill>
                <a:uFillTx/>
                <a:latin typeface="Arial"/>
              </a:rPr>
              <a:t>se pone la ropa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067" name="" descr=""/>
          <p:cNvPicPr/>
          <p:nvPr/>
        </p:nvPicPr>
        <p:blipFill>
          <a:blip r:embed="rId1"/>
          <a:stretch/>
        </p:blipFill>
        <p:spPr>
          <a:xfrm>
            <a:off x="4419720" y="2971800"/>
            <a:ext cx="1828800" cy="2730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0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0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0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10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0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0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10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3T17:57:39Z</dcterms:created>
  <dc:creator>dassonimil</dc:creator>
  <dc:description/>
  <dc:language>en-US</dc:language>
  <cp:lastModifiedBy>dassonimil</cp:lastModifiedBy>
  <dcterms:modified xsi:type="dcterms:W3CDTF">2012-04-05T16:06:02Z</dcterms:modified>
  <cp:revision>9</cp:revision>
  <dc:subject/>
  <dc:title>La Rutina </dc:title>
</cp:coreProperties>
</file>